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FE8-1F8B-49D6-B8F5-074A4ACE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4B4-8E1B-42E7-9204-E203869F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5AE-9CDA-43F0-B351-5C7C155F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2D98-B813-4F80-96A6-3C49644F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113-A725-4D63-B2D1-D9157D04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172-0D04-4ED1-ADCD-F424FC9E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A67-37EC-4603-9C88-806D644D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912-1BD4-4AD0-8553-433F4A2A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16D-C09E-414B-BDA5-A691EC03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20F6-B831-4AF7-A8A1-D1596861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BF2-CFB5-47E4-B9E4-D0D27A9E2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E38-E6B0-4042-9D27-64B6476E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B08F-FF26-4BD0-9C1B-A6EE0F15D3E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2822-FA8C-491C-80BC-8CE9819937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Anten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65480" y="2558880"/>
            <a:ext cx="114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alf-Wave Di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lar plo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ross-sectional view; show three-dimensional radiation pattern in two dimen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iation Resista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iation Resi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tion of antenna’s input impedance; result of power radiated into spa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es with antenna length and height of antenna above grou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adiation Resista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iation Resi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enna constructed of very thin wire and isolated in space; electrical length corresponds closely to its physical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al-and-error procedure to find exact length for optimum antenna perform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tenna Feed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fer energy from generator to antenna by transmission line (antenna feed lin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onant Feed 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ssion line connected to center of antenn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tenna Feed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nresonant Feed 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ligible standing waves if properly terminated in its impedance at antenna e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ion practically independent of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tenna Feed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lta M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line does not match impedance of antenna, it is necessary to use special impedance matching techniq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rter-Wave Match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match low impedance of antenna to line of higher imped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no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Ground Ref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with frequencies below 2 MH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tter connected between antenna and ground; quarter-wave in physical length, half-wave operation may be obtain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no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Ground Ref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nterpo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ructure of wire erected short distance above ground and insulated from groun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ation patte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mnidirectio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ding c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ne out capacitive appearance of anten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tenna Array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/Parasitic El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enna arr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re than one element or compon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sitic arr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or more of elements not electrically connected; also termed reflector because it “reflects” energy from driven el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tenna Array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/Parasitic El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ven arr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elements connec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agi–Uda anten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iven element and two or more parasitic elem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Antenna Theo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mit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or or system of conductors; transition from guided wave of electrical energy to electromagnetic wave propagating in free spac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eiv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conductor or array of conductors; converts electromagnetic wave cutting across it back to electrical signal in alternating voltages/curr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tenna Array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ven Collinear Arr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ation of half-wave elements in which all elements placed end to end to form straight li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roadside Arr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half-wave elements mounted vertically, one over the 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rtical Arr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mnidirectional in horizontal pla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pecial-Purpose Antenn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g-Periodic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case of driven array; wide-bandwidth or broadband antenn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mall-Loop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etic field everywhere perpendicular to loo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pecial-Purpose Antenn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errite Loop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 number of loops wound about highly magnetic core (usually ferrite); increases greatly effective diameter of loop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pecial-Purpose Antenn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lded Dipol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e radiation pattern as standard half-wave dipole antenna; broadband op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t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HF and microwave frequencies; energy coupled into slot by waveguides or coaxial line feed connected across dimension of rectangular slo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wave Antenn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optical theory more than standard antenna theor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ghly directive and provide high gain compared to half-wavelength dipo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crowaves divided into band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Table 14-1: Microwave Frequency Design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4-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Microwave Frequency Designation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5" descr="tab14_01.jpg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3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wave Antenn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rn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dual flare to waveguide to allow maximum radiation and minimum reflection back into gu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rcular, pyramidal, sectoral hor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wave Antenn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arabolic Reflector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tellite and terrestrial communication systems; high gain and directiv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rom geometric sh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abolo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wave Antenna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ns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nciple of zoning; savings in bulk and expense justify use of zoned le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tch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quare or round “island” of conductor on dielectric substrate backed by conducting ground pla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wave System Link Budget and Path-Loss Calcul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ny terrestrial communications systems involve point-to-point links where path of interest directly between transmitter and receiver, both installed at fixed location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restrial microwave systems operate with relatively low transmitter power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Antenna Theor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ectromagnetic Energ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lerating and decelerating electric charges moving within conduct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iproc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changeability for transmitting and receiving oper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lar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ientation of electric field; same as antenna’s physical configu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wave System Link Budget and Path-Loss Calcul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io transceivers available that provide very high data rates on unlicensed band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wave System Link Budget and Path-Loss Calcul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shold sensitivity of receiver: minimum signal level present at receiver antenna input to produce acceptable bit-error rate (BER)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cause microwave communications are line of sight, a path study must be made to ensure no obstructions lie anywhere in line between transmitter and receiv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crowave System Link Budget and Path-Loss Calcul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nsure no objects close enough to produce diffraction effect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alf-Wave Di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enna having electrical length of one-half wavelength at applied frequ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with frequencies above 2 MH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edance is ratio of voltage applied to antenna to current flowing in it at any poi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ding Hertz antenna at center results in input impedance that is purely resist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alf-Wave Di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enna with purely resistive imped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tenna no longer half wavelength; impedance both resistive and reactive proper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alf-Wave Di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enna will work as long as there is current flow and ability to radi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power transf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ake place when source, feed-line, antenna impedances are equ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alf-Wave Di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ation patte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diated field strength around anten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ergy in certain directions at expense of lower energy in other direc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alf-Wave Di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amwid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paration between half-power points on radiation patter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enna g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diated energy in preferred direction at expense of other direc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Half-Wave Dipole Antenna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lf-Wave Dipole Anten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radiated power (ER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in of antenna multiplied by its power inpu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isotropic radiated power (EIR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ffective-power calculations involving antennas with gains expressed in dB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49:53Z</dcterms:modified>
  <cp:revision>5</cp:revision>
  <dc:subject/>
  <dc:title>Slide 1</dc:title>
</cp:coreProperties>
</file>